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5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49F1-2CBC-4917-940A-8DC76F79B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пособы представления учеб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8843-1D22-4E6E-9802-4EAEE6098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Результат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72A-5D18-474C-9A96-EDA8914C2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олее 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берите глаголы, связывающие ключевое понятие и его существенные призн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ируйте в прямоугольниках следующего уровн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выбранных вами глаго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более полного раскрытия ключевого по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едованием име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го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6CA-C8A0-4274-A908-DEC8155DA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4C33-64D5-477A-A6AA-AC64A05A2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группы причин распределяют как рыбий ске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C9C-5DD6-455A-ABB5-8E3360E33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«шести 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существуют следующие шесть возможных причин тех или ины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chin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asur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D110-6C40-479F-A32F-875249BA5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DB40-EEFA-4BC1-BE48-19E371460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, интеллект-карта или ментальная карта (Mind maps) –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 изображения информации в графическом виде, отражающая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мысловые, ассоциативные, причинно-следственные и други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жду понятиями, частями, составляющ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ой области, которую мы изучаем (рассматрива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строгих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я интеллект-карт, как нет и неправильных ка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4874-3195-41CE-8F01-594B0C6EA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изаци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88C-94A7-4DD4-BCA2-67CDBF400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. 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0BE8-61EE-4CB5-AB3F-1CF824413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 (коллективное творчество, мозговой штур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ирование или аннотирование текстовых матери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думывание проблем, анализ слож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302-253B-4FF2-9D7E-DB4E31E99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графических сх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графических сх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схем-опорных консп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AB2-81EA-450F-AFE9-7BF510CF8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и графически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ют представить тему целиком, наглядно и понят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обеспечивает повышение мотивация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готовые графические схемы (в учебниках или на плакатах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ь графические схемы непосредственно на уроке по ходу изложения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1E96-3C1F-488E-9D50-14AF961A2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ческие схемы использу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ложении нов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мысления и закрепления изучаем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бщении и систематизации изучен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апе контроля знаний, умений и навыков, присвоенных уче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052-ED87-43D4-BA96-85CFC1818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апоми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EE5-30F7-415D-962D-54F26F9C6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аглядности  – инструмент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наглядно-образ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я навыков работы с графической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ации внимания при усвоени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и учебно-познаватель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и изучаемых вопр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й систематиза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406A-539A-44E7-85E5-711756054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br>
              <a:rPr sz="11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осмысленно учить материал, выделяя в нем главное и отбрасывая второстепенно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построения рассказа, ответа, речи, аргументирова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D479-723E-4A47-B3CA-C70ED781C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кластер» происходит от английского «cluster» – гроздь,  скоп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строении клас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нтральном ов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ют ключевое понят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валах втор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нятия, раскрывающие смысл ключев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овалах третье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детализация понятий, упомянутых на предыдуще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EBA-7EEE-42A1-AF08-F0CF98712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достающие надписи в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B60D-F1E4-4A4C-99EF-DF8824E3F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03E-D43F-4CCE-826B-87B1EA70C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Методика постро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располагают ключевое поняти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располагают в центральном ова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понятия раскрывают смысл ключевого понятия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 эти понятия мы разместим на схем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е из понятий второго уровня детализировано в данном фрагмент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ьзовательский интерфей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ответствующую информацию разместим в овалах третье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9D1-8754-4A4E-B5A5-B9DA231FE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4A5-AD0C-4FC0-B5B3-90826CAE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3A2-5747-4C1A-9AB9-51D1B3C7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54F-2AAC-4A0E-A17A-0525CB6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9A3-B6F7-492D-B659-4FEC0CC8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5930-3372-4F1F-A0E8-CF40E89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A54-714A-46A2-9E23-220F1B1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C154-97D1-4383-8730-21E21AC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965B-3651-4F09-9517-3C0FD8A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877A-96D7-46A5-A6B3-A64E6633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78F2-2A39-4669-BA0F-5DEC3C45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DED7-F8B7-4A3A-942C-AC23D76C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87B-04FC-4CC8-BF65-FC97971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1F97-2108-4C9C-88BC-3F22D2B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E26F-EA69-4159-BBB8-A3CCEEB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5778-D454-473D-970B-9C20F1C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A2C1-C31F-4880-9A18-244744B5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E6E7-4AE9-4B33-89F4-05EB80AD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26F6-6810-4DC5-8CFC-BF552521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2116-E7C7-48A0-907F-F5E13801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B95A-B0BF-4CC6-A44C-E174269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A337-64B4-4B81-8B48-12143FE6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4E7E-7583-4063-9AB7-736578C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824-D708-4257-8C17-7BD3C730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93CD-B3B8-4EEF-BF22-47207FD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BA78-BB23-42BB-8CC5-50F5AEE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2020-E5C6-4A53-B81C-034E192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8BCB-BB6A-4FC5-A6C0-DAAFB44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0E0C-AF4E-4225-8835-5366C062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A8F5-303F-440C-991E-2B526012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4435-C618-4A30-A2EF-DF40C75C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0F4A-C49E-47CC-B187-FF61C922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26A8-7BBA-44BB-8B86-4C3C875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7FAC-69DD-40EF-A0E7-8B51EDE4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00C-6D7F-4D80-88DB-9BC6624B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7817-C46F-4059-B813-F2D7C3AC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001C-440B-4BAD-8C5B-02D5B30B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33C6-A88F-4852-A9BE-2017E92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17AF-735D-40E5-A89B-4192B54C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F576-F533-4AE3-A2C1-4C3F947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82BD-0301-460C-B41D-C56B5A2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3161-5059-4897-896D-A76EE0A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8403-1883-4CE2-96B4-DD568B61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EB5A-0FF8-4397-95D2-077316C2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C0A42-296F-4775-85E3-3F594E95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338-F26D-4716-B941-F459DF2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903F-3A1F-438C-AD80-446713F6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5B0B-2511-4739-80A1-AD60BE5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CB85-31FE-4CA6-9DA1-DAD3ECE9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67D34-AD39-48C8-8787-67AD84A5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5D36-0E83-4902-A987-CDB8662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C982-DB5E-408E-8FFB-3A36FED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242D-2F61-4B7C-89F9-3010A405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23E3-D226-4D18-9A74-1254A34A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9A35-059D-4B61-9D20-AAB4F367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C4D8-4277-4499-88BE-69CA99B1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A08-73FB-4416-91CD-6F03F13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97C2-8F7B-4070-B306-DC5738CD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DD79-0183-4CBA-8BC2-AC99E4E3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DEA4-7110-48AD-858E-94A831FA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C0B5-B5DF-4034-8A1E-D308EE0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F9907-0370-4D55-A169-6F4BAEB7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23A4-9D78-45F0-8B20-CDFCF1A6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3FCA-0194-484F-988D-571C7B01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5EC1-ABD8-48E1-ABBE-85A9014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F896B-5F77-419C-905B-9161FC12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38D1C-61A7-4899-9161-463506AF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002-24A0-4B96-97FB-D5F799C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62516-89E0-4657-8416-031CC0D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CC2E-EFF8-4AFE-AEBB-3B059F8B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935F-0247-496C-A6A2-3B667E71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19C3-6E34-4A03-814F-BA1A7BD2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C2F0D-2A92-4495-B8D4-057A34D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77D0-457E-497D-ADE6-D0F8FA6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2A48-7FDD-47C1-9D8A-54DD67D6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C19E-07CD-4A8B-B468-4FC1BE57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1847-CE3C-4E4E-A73F-9AE0C20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50CB-907D-4F1F-A222-7552965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8F5-0736-41CC-9169-4C86E42B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52B4-531B-4284-9A7D-C9B5193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FBA9-FEF5-431C-A8F1-8471A9C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550E5-13FB-4FB3-8F26-ACB6AA8F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3CFA8-347B-4DCF-84B6-547BA7EA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DBB0-5549-41ED-9651-C9BAF754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1C00-2327-436A-8063-1AEB9296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738D4-6510-4277-BA63-E19BE2F5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8895E-EF8F-40D8-A1D3-E8E07F7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70848-B376-4FBE-95AF-8242B896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CC556-F9DF-4D52-B007-D8606BF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AFD-4302-4A63-AC90-EFC0A6A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2B24-9B9C-41B8-A6A5-02E9537D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BB5E4-BBA9-43BF-910F-DF804E3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C78E6-106B-4168-A73A-12A99C1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1B80-CD34-48E3-A0B5-585E0FA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18F76-C72C-4A39-A35B-CC8A532B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DF99F-A2C5-42A9-8B07-82F6DBEF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F448-C2AD-4414-866F-4D5C7C65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0789-9D38-4489-B1E3-FE9ECE8863B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1E9-8290-4B39-87E1-AF23901BD7F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89B8-284B-4E68-AA21-ABAAF8A143FC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f0f4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4B3-1E54-445F-AFBD-43BE9E5ADB4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BE4-EC09-4EA8-925D-2F742742834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81F6-E43A-4E28-8C65-01B58E4662E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CFD-BEA4-46B6-AC8F-55944574396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54AB-B11B-49C2-BCCB-B43DED68E64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43CB-554E-4B43-838E-70956E4CDF5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19C-B20F-4C4C-855F-AD507A1E40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DFC-7B5B-43BD-ABCB-E54D1F43333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6529-E6C0-4FE8-951D-0543CAFA9BE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1EA-6B9A-489E-87B8-3C294EB35B6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E19F-AFEF-4964-9DAC-DE930F2B70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8B5-013B-4B7C-8D08-9F7548A865FA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355-AB34-4D58-8ACC-CE522DA1C6D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000080" y="1633680"/>
            <a:ext cx="8199360" cy="2536560"/>
          </a:xfrm>
          <a:prstGeom prst="rect">
            <a:avLst/>
          </a:prstGeom>
          <a:ln w="0">
            <a:noFill/>
          </a:ln>
        </p:spPr>
      </p:pic>
      <p:sp>
        <p:nvSpPr>
          <p:cNvPr id="378" name="Подзаголовок 2"/>
          <p:cNvSpPr/>
          <p:nvPr/>
        </p:nvSpPr>
        <p:spPr>
          <a:xfrm>
            <a:off x="714240" y="1429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Босова Людмил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kulll@mail.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642960" y="1214280"/>
            <a:ext cx="7429320" cy="4357440"/>
            <a:chOff x="642960" y="1214280"/>
            <a:chExt cx="7429320" cy="4357440"/>
          </a:xfrm>
        </p:grpSpPr>
        <p:grpSp>
          <p:nvGrpSpPr>
            <p:cNvPr id="450" name="Group 14"/>
            <p:cNvGrpSpPr/>
            <p:nvPr/>
          </p:nvGrpSpPr>
          <p:grpSpPr>
            <a:xfrm>
              <a:off x="1357200" y="1214280"/>
              <a:ext cx="6512400" cy="3445920"/>
              <a:chOff x="1357200" y="1214280"/>
              <a:chExt cx="6512400" cy="344592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666960" y="2451600"/>
                <a:ext cx="1857240" cy="879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6"/>
              <p:cNvSpPr/>
              <p:nvPr/>
            </p:nvSpPr>
            <p:spPr>
              <a:xfrm>
                <a:off x="3916800" y="2591280"/>
                <a:ext cx="1285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нтерфей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7"/>
              <p:cNvSpPr/>
              <p:nvPr/>
            </p:nvSpPr>
            <p:spPr>
              <a:xfrm>
                <a:off x="1369080" y="254700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8"/>
              <p:cNvSpPr/>
              <p:nvPr/>
            </p:nvSpPr>
            <p:spPr>
              <a:xfrm>
                <a:off x="1357200" y="2754360"/>
                <a:ext cx="14166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9"/>
              <p:cNvSpPr/>
              <p:nvPr/>
            </p:nvSpPr>
            <p:spPr>
              <a:xfrm>
                <a:off x="3835800" y="121428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3717000" y="1307520"/>
                <a:ext cx="1619280" cy="62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о-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1"/>
              <p:cNvSpPr/>
              <p:nvPr/>
            </p:nvSpPr>
            <p:spPr>
              <a:xfrm>
                <a:off x="6476760" y="2340000"/>
                <a:ext cx="1357200" cy="828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22"/>
              <p:cNvSpPr/>
              <p:nvPr/>
            </p:nvSpPr>
            <p:spPr>
              <a:xfrm>
                <a:off x="6512400" y="2573280"/>
                <a:ext cx="13572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3856680" y="3831840"/>
                <a:ext cx="150012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4"/>
              <p:cNvSpPr/>
              <p:nvPr/>
            </p:nvSpPr>
            <p:spPr>
              <a:xfrm>
                <a:off x="3761280" y="4064760"/>
                <a:ext cx="176184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льзовательск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5"/>
              <p:cNvSpPr/>
              <p:nvPr/>
            </p:nvSpPr>
            <p:spPr>
              <a:xfrm flipV="1">
                <a:off x="4536000" y="2042640"/>
                <a:ext cx="0" cy="40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6"/>
              <p:cNvSpPr/>
              <p:nvPr/>
            </p:nvSpPr>
            <p:spPr>
              <a:xfrm flipH="1">
                <a:off x="2738160" y="2909520"/>
                <a:ext cx="91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5512320" y="2857680"/>
                <a:ext cx="9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8"/>
              <p:cNvSpPr/>
              <p:nvPr/>
            </p:nvSpPr>
            <p:spPr>
              <a:xfrm>
                <a:off x="4619520" y="3362400"/>
                <a:ext cx="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29"/>
            <p:cNvSpPr/>
            <p:nvPr/>
          </p:nvSpPr>
          <p:spPr>
            <a:xfrm>
              <a:off x="642960" y="474372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0"/>
            <p:cNvSpPr/>
            <p:nvPr/>
          </p:nvSpPr>
          <p:spPr>
            <a:xfrm>
              <a:off x="3893400" y="492516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1"/>
            <p:cNvSpPr/>
            <p:nvPr/>
          </p:nvSpPr>
          <p:spPr>
            <a:xfrm>
              <a:off x="6512760" y="471780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 flipH="1">
              <a:off x="1702440" y="4316760"/>
              <a:ext cx="215496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333760" y="4251960"/>
              <a:ext cx="205992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4619520" y="46792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5"/>
            <p:cNvSpPr/>
            <p:nvPr/>
          </p:nvSpPr>
          <p:spPr>
            <a:xfrm>
              <a:off x="842760" y="4782600"/>
              <a:ext cx="1214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 основ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6"/>
            <p:cNvSpPr/>
            <p:nvPr/>
          </p:nvSpPr>
          <p:spPr>
            <a:xfrm>
              <a:off x="3938400" y="4989600"/>
              <a:ext cx="1357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граф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6522120" y="4769640"/>
              <a:ext cx="145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трехмер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857160"/>
            <a:ext cx="8429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е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ключевое понятие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ак можно более точно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дберите глаголы, связывающие ключевое понятие и его существенные признаки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нкретизируйте в прямоугольниках следующего уровня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смысл выбранных вами глаголов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для более полного раскрытия ключевого понят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ите за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редованием имени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глагола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"/>
          <p:cNvGraphicFramePr/>
          <p:nvPr/>
        </p:nvGraphicFramePr>
        <p:xfrm>
          <a:off x="214200" y="1071720"/>
          <a:ext cx="864396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71720"/>
                    <a:ext cx="86439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сновные группы причин распределяют как рыбий скеле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6645240" y="5645160"/>
            <a:ext cx="2084400" cy="852480"/>
          </a:xfrm>
          <a:prstGeom prst="rect">
            <a:avLst/>
          </a:prstGeom>
          <a:ln w="0">
            <a:noFill/>
          </a:ln>
        </p:spPr>
      </p:pic>
      <p:sp>
        <p:nvSpPr>
          <p:cNvPr id="49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 общем случае существуют следующие шесть возможных причин тех или иных результатов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атериал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terial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борудова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chine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змере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тод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люди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неджмент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1000080" y="3429000"/>
            <a:ext cx="7571520" cy="2927520"/>
            <a:chOff x="1000080" y="3429000"/>
            <a:chExt cx="7571520" cy="2927520"/>
          </a:xfrm>
        </p:grpSpPr>
        <p:sp>
          <p:nvSpPr>
            <p:cNvPr id="497" name="Line 49"/>
            <p:cNvSpPr/>
            <p:nvPr/>
          </p:nvSpPr>
          <p:spPr>
            <a:xfrm>
              <a:off x="4716360" y="52887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0"/>
            <p:cNvSpPr/>
            <p:nvPr/>
          </p:nvSpPr>
          <p:spPr>
            <a:xfrm>
              <a:off x="4446720" y="55540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1"/>
            <p:cNvSpPr/>
            <p:nvPr/>
          </p:nvSpPr>
          <p:spPr>
            <a:xfrm>
              <a:off x="3941640" y="545220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1000080" y="3429000"/>
              <a:ext cx="7571520" cy="2927520"/>
              <a:chOff x="1000080" y="3429000"/>
              <a:chExt cx="7571520" cy="2927520"/>
            </a:xfrm>
          </p:grpSpPr>
          <p:grpSp>
            <p:nvGrpSpPr>
              <p:cNvPr id="501" name="Group 53"/>
              <p:cNvGrpSpPr/>
              <p:nvPr/>
            </p:nvGrpSpPr>
            <p:grpSpPr>
              <a:xfrm>
                <a:off x="1795680" y="3690000"/>
                <a:ext cx="6775920" cy="2355840"/>
                <a:chOff x="1795680" y="3690000"/>
                <a:chExt cx="6775920" cy="2355840"/>
              </a:xfrm>
            </p:grpSpPr>
            <p:grpSp>
              <p:nvGrpSpPr>
                <p:cNvPr id="502" name="Group 54"/>
                <p:cNvGrpSpPr/>
                <p:nvPr/>
              </p:nvGrpSpPr>
              <p:grpSpPr>
                <a:xfrm>
                  <a:off x="2098800" y="3974040"/>
                  <a:ext cx="6472800" cy="1734120"/>
                  <a:chOff x="2098800" y="3974040"/>
                  <a:chExt cx="6472800" cy="1734120"/>
                </a:xfrm>
              </p:grpSpPr>
              <p:sp>
                <p:nvSpPr>
                  <p:cNvPr id="503" name="Line 55"/>
                  <p:cNvSpPr/>
                  <p:nvPr/>
                </p:nvSpPr>
                <p:spPr>
                  <a:xfrm>
                    <a:off x="2098800" y="4866120"/>
                    <a:ext cx="495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56"/>
                  <p:cNvSpPr/>
                  <p:nvPr/>
                </p:nvSpPr>
                <p:spPr>
                  <a:xfrm rot="5400000">
                    <a:off x="6953040" y="4089600"/>
                    <a:ext cx="1734120" cy="150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57"/>
                  <p:cNvSpPr/>
                  <p:nvPr/>
                </p:nvSpPr>
                <p:spPr>
                  <a:xfrm>
                    <a:off x="6999840" y="4559400"/>
                    <a:ext cx="1515960" cy="59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изка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успеваемость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Line 58"/>
                <p:cNvSpPr/>
                <p:nvPr/>
              </p:nvSpPr>
              <p:spPr>
                <a:xfrm>
                  <a:off x="5117760" y="369000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59"/>
                <p:cNvSpPr/>
                <p:nvPr/>
              </p:nvSpPr>
              <p:spPr>
                <a:xfrm>
                  <a:off x="3930480" y="370008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60"/>
                <p:cNvSpPr/>
                <p:nvPr/>
              </p:nvSpPr>
              <p:spPr>
                <a:xfrm>
                  <a:off x="2667240" y="370008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1"/>
                <p:cNvSpPr/>
                <p:nvPr/>
              </p:nvSpPr>
              <p:spPr>
                <a:xfrm flipV="1">
                  <a:off x="2654640" y="48423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62"/>
                <p:cNvSpPr/>
                <p:nvPr/>
              </p:nvSpPr>
              <p:spPr>
                <a:xfrm flipV="1">
                  <a:off x="3892320" y="48729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3"/>
                <p:cNvSpPr/>
                <p:nvPr/>
              </p:nvSpPr>
              <p:spPr>
                <a:xfrm flipV="1">
                  <a:off x="5054760" y="487296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64"/>
                <p:cNvSpPr/>
                <p:nvPr/>
              </p:nvSpPr>
              <p:spPr>
                <a:xfrm>
                  <a:off x="1795680" y="457740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65"/>
                <p:cNvSpPr/>
                <p:nvPr/>
              </p:nvSpPr>
              <p:spPr>
                <a:xfrm flipV="1">
                  <a:off x="1833480" y="483228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6"/>
              <p:cNvSpPr/>
              <p:nvPr/>
            </p:nvSpPr>
            <p:spPr>
              <a:xfrm>
                <a:off x="3475800" y="4910040"/>
                <a:ext cx="241272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Учебный процес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7"/>
              <p:cNvSpPr/>
              <p:nvPr/>
            </p:nvSpPr>
            <p:spPr>
              <a:xfrm>
                <a:off x="3492720" y="6071040"/>
                <a:ext cx="921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Люд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68"/>
              <p:cNvSpPr/>
              <p:nvPr/>
            </p:nvSpPr>
            <p:spPr>
              <a:xfrm>
                <a:off x="5168520" y="3481200"/>
                <a:ext cx="135072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атериа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69"/>
              <p:cNvSpPr/>
              <p:nvPr/>
            </p:nvSpPr>
            <p:spPr>
              <a:xfrm>
                <a:off x="5055120" y="6034320"/>
                <a:ext cx="166788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Оборудова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70"/>
              <p:cNvSpPr/>
              <p:nvPr/>
            </p:nvSpPr>
            <p:spPr>
              <a:xfrm>
                <a:off x="1163160" y="3429000"/>
                <a:ext cx="1515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змер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71"/>
              <p:cNvSpPr/>
              <p:nvPr/>
            </p:nvSpPr>
            <p:spPr>
              <a:xfrm>
                <a:off x="3349440" y="3516120"/>
                <a:ext cx="102384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то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2"/>
              <p:cNvSpPr/>
              <p:nvPr/>
            </p:nvSpPr>
            <p:spPr>
              <a:xfrm>
                <a:off x="1000080" y="6024600"/>
                <a:ext cx="166644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неджмен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73"/>
            <p:cNvSpPr/>
            <p:nvPr/>
          </p:nvSpPr>
          <p:spPr>
            <a:xfrm>
              <a:off x="4435560" y="567432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4"/>
            <p:cNvSpPr/>
            <p:nvPr/>
          </p:nvSpPr>
          <p:spPr>
            <a:xfrm>
              <a:off x="4862160" y="529920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5"/>
            <p:cNvSpPr/>
            <p:nvPr/>
          </p:nvSpPr>
          <p:spPr>
            <a:xfrm>
              <a:off x="3175920" y="5319360"/>
              <a:ext cx="92052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6"/>
            <p:cNvSpPr/>
            <p:nvPr/>
          </p:nvSpPr>
          <p:spPr>
            <a:xfrm>
              <a:off x="5872680" y="5309280"/>
              <a:ext cx="381600" cy="34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7"/>
            <p:cNvSpPr/>
            <p:nvPr/>
          </p:nvSpPr>
          <p:spPr>
            <a:xfrm>
              <a:off x="5827680" y="565596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8"/>
            <p:cNvSpPr/>
            <p:nvPr/>
          </p:nvSpPr>
          <p:spPr>
            <a:xfrm flipH="1">
              <a:off x="6030000" y="428904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9"/>
            <p:cNvSpPr/>
            <p:nvPr/>
          </p:nvSpPr>
          <p:spPr>
            <a:xfrm>
              <a:off x="6007680" y="4044240"/>
              <a:ext cx="102168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б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0"/>
            <p:cNvSpPr/>
            <p:nvPr/>
          </p:nvSpPr>
          <p:spPr>
            <a:xfrm flipH="1">
              <a:off x="4671360" y="41464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 flipH="1">
              <a:off x="5041800" y="45136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2"/>
            <p:cNvSpPr/>
            <p:nvPr/>
          </p:nvSpPr>
          <p:spPr>
            <a:xfrm>
              <a:off x="5097960" y="4360680"/>
              <a:ext cx="80820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3"/>
            <p:cNvSpPr/>
            <p:nvPr/>
          </p:nvSpPr>
          <p:spPr>
            <a:xfrm>
              <a:off x="4604040" y="3940200"/>
              <a:ext cx="81936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84"/>
            <p:cNvSpPr/>
            <p:nvPr/>
          </p:nvSpPr>
          <p:spPr>
            <a:xfrm flipV="1">
              <a:off x="4547880" y="4513680"/>
              <a:ext cx="2325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5"/>
            <p:cNvSpPr/>
            <p:nvPr/>
          </p:nvSpPr>
          <p:spPr>
            <a:xfrm>
              <a:off x="3582360" y="4289040"/>
              <a:ext cx="976680" cy="41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омашня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6"/>
            <p:cNvSpPr/>
            <p:nvPr/>
          </p:nvSpPr>
          <p:spPr>
            <a:xfrm flipV="1">
              <a:off x="2583000" y="384012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 flipV="1">
              <a:off x="2998440" y="422784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8"/>
            <p:cNvSpPr/>
            <p:nvPr/>
          </p:nvSpPr>
          <p:spPr>
            <a:xfrm>
              <a:off x="1437840" y="393228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нтро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9"/>
            <p:cNvSpPr/>
            <p:nvPr/>
          </p:nvSpPr>
          <p:spPr>
            <a:xfrm>
              <a:off x="2392200" y="4370760"/>
              <a:ext cx="6847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0"/>
            <p:cNvSpPr/>
            <p:nvPr/>
          </p:nvSpPr>
          <p:spPr>
            <a:xfrm>
              <a:off x="2897280" y="51969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91"/>
            <p:cNvSpPr/>
            <p:nvPr/>
          </p:nvSpPr>
          <p:spPr>
            <a:xfrm>
              <a:off x="2481840" y="56458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92"/>
            <p:cNvSpPr/>
            <p:nvPr/>
          </p:nvSpPr>
          <p:spPr>
            <a:xfrm>
              <a:off x="2032920" y="4972680"/>
              <a:ext cx="114516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3"/>
            <p:cNvSpPr/>
            <p:nvPr/>
          </p:nvSpPr>
          <p:spPr>
            <a:xfrm>
              <a:off x="1482480" y="5380560"/>
              <a:ext cx="1066320" cy="44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спис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ро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1000080" y="2000160"/>
            <a:ext cx="7143840" cy="2700360"/>
            <a:chOff x="1000080" y="2000160"/>
            <a:chExt cx="7143840" cy="2700360"/>
          </a:xfrm>
        </p:grpSpPr>
        <p:sp>
          <p:nvSpPr>
            <p:cNvPr id="547" name="AutoShape 3"/>
            <p:cNvSpPr/>
            <p:nvPr/>
          </p:nvSpPr>
          <p:spPr>
            <a:xfrm rot="5400000">
              <a:off x="6309360" y="2865960"/>
              <a:ext cx="2197440" cy="1471680"/>
            </a:xfrm>
            <a:prstGeom prst="triangle">
              <a:avLst>
                <a:gd name="adj" fmla="val 50000"/>
              </a:avLst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6641640" y="3143520"/>
              <a:ext cx="1359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остоинства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 и недостатки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графических 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х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13160" y="3485160"/>
              <a:ext cx="504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56296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46792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3697920" y="2409480"/>
              <a:ext cx="909360" cy="10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941560" y="249120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3043800" y="348516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 flipH="1">
              <a:off x="5087880" y="347364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4147920" y="2479320"/>
              <a:ext cx="12045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Нагляд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360600" y="2000160"/>
              <a:ext cx="13284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Компакт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1695600" y="2010960"/>
              <a:ext cx="12366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бозрим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451240" y="2468520"/>
              <a:ext cx="1328400" cy="4082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азнообраз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5373360" y="2070000"/>
              <a:ext cx="18190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ривлека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4136760" y="4151520"/>
              <a:ext cx="187164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точ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1602720" y="4162680"/>
              <a:ext cx="21664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подроб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 flipH="1" flipV="1">
              <a:off x="2011320" y="2420640"/>
              <a:ext cx="919800" cy="10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"/>
            <p:cNvSpPr/>
            <p:nvPr/>
          </p:nvSpPr>
          <p:spPr>
            <a:xfrm flipH="1" flipV="1">
              <a:off x="1715400" y="2970720"/>
              <a:ext cx="439200" cy="5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1000080" y="2701800"/>
              <a:ext cx="12063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истем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рта памяти, интеллект-карта или ментальная карта (Mind maps) – эт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ехнология изображения информации в графическом виде, отражающая связ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смысловые, ассоциативные, причинно-следственные и другие)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ежду понятиями, частями, составляющим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ой области, которую мы изучаем (рассматриваем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т строгих прави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роения интеллект-карт, как нет и неправильных кар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Заголовок 2" descr=""/>
          <p:cNvPicPr/>
          <p:nvPr/>
        </p:nvPicPr>
        <p:blipFill>
          <a:blip r:embed="rId1"/>
          <a:stretch/>
        </p:blipFill>
        <p:spPr>
          <a:xfrm>
            <a:off x="231840" y="60480"/>
            <a:ext cx="8454960" cy="10490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13840" y="928800"/>
            <a:ext cx="8543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Заголовок 2" descr=""/>
          <p:cNvPicPr/>
          <p:nvPr/>
        </p:nvPicPr>
        <p:blipFill>
          <a:blip r:embed="rId1"/>
          <a:stretch/>
        </p:blipFill>
        <p:spPr>
          <a:xfrm>
            <a:off x="274680" y="103320"/>
            <a:ext cx="8454960" cy="1055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2"/>
          <a:stretch/>
        </p:blipFill>
        <p:spPr>
          <a:xfrm>
            <a:off x="6929280" y="4929120"/>
            <a:ext cx="1386000" cy="1602000"/>
          </a:xfrm>
          <a:prstGeom prst="rect">
            <a:avLst/>
          </a:prstGeom>
          <a:ln w="0">
            <a:noFill/>
          </a:ln>
        </p:spPr>
      </p:pic>
      <p:sp>
        <p:nvSpPr>
          <p:cNvPr id="57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Ментальная карта"/>
          <p:cNvPicPr/>
          <p:nvPr/>
        </p:nvPicPr>
        <p:blipFill>
          <a:blip r:embed="rId1"/>
          <a:stretch/>
        </p:blipFill>
        <p:spPr>
          <a:xfrm>
            <a:off x="1214280" y="1357200"/>
            <a:ext cx="7380360" cy="4741920"/>
          </a:xfrm>
          <a:prstGeom prst="rect">
            <a:avLst/>
          </a:prstGeom>
          <a:ln w="0">
            <a:noFill/>
          </a:ln>
        </p:spPr>
      </p:pic>
      <p:pic>
        <p:nvPicPr>
          <p:cNvPr id="577" name="Заголовок 5" descr=""/>
          <p:cNvPicPr/>
          <p:nvPr/>
        </p:nvPicPr>
        <p:blipFill>
          <a:blip r:embed="rId2"/>
          <a:stretch/>
        </p:blipFill>
        <p:spPr>
          <a:xfrm>
            <a:off x="231840" y="9684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овая работа (коллективное творчество, мозговой штур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онспектирование или аннотирование текстовых материалов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бдумывание проблем, анализ сложных ситуаци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ан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нятие реш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208080" y="55440"/>
            <a:ext cx="8478720" cy="11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3112920" cy="248436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схемы как инструмент работы с информац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пы графических схе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ластер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енотатный гра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чинная карт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рта памяти (интеллект-карт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сто графических схем на уро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ы схем-опорных конспек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-103320" y="55440"/>
            <a:ext cx="8899560" cy="1133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ческие схем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зволяют представить тему целиком, наглядно и понятно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то обеспечивает повышение мотивация учащихс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итель может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спользовать готовые графические схемы (в учебниках или на плакатах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ь графические схемы непосредственно на уроке по ходу изложения материал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изложении нов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осмысления и закрепления изучаем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обобщении и систематизации изученн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этапе контроля знаний, умений и навыков, присвоенных учени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2960640" cy="2357280"/>
          </a:xfrm>
          <a:prstGeom prst="rect">
            <a:avLst/>
          </a:prstGeom>
          <a:ln w="0">
            <a:noFill/>
          </a:ln>
        </p:spPr>
      </p:pic>
      <p:sp>
        <p:nvSpPr>
          <p:cNvPr id="589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Object 2"/>
          <p:cNvGraphicFramePr/>
          <p:nvPr/>
        </p:nvGraphicFramePr>
        <p:xfrm>
          <a:off x="142920" y="0"/>
          <a:ext cx="87804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0"/>
                    <a:ext cx="87804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Object 2"/>
          <p:cNvGraphicFramePr/>
          <p:nvPr/>
        </p:nvGraphicFramePr>
        <p:xfrm>
          <a:off x="142920" y="142920"/>
          <a:ext cx="8780400" cy="56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78040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2"/>
          <p:cNvGraphicFramePr/>
          <p:nvPr/>
        </p:nvGraphicFramePr>
        <p:xfrm>
          <a:off x="88920" y="0"/>
          <a:ext cx="89661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485200" cy="1182600"/>
          </a:xfrm>
          <a:prstGeom prst="rect">
            <a:avLst/>
          </a:prstGeom>
          <a:ln w="0">
            <a:noFill/>
          </a:ln>
        </p:spPr>
      </p:pic>
      <p:pic>
        <p:nvPicPr>
          <p:cNvPr id="383" name="Схема 1" descr=""/>
          <p:cNvPicPr/>
          <p:nvPr/>
        </p:nvPicPr>
        <p:blipFill>
          <a:blip r:embed="rId2"/>
          <a:stretch/>
        </p:blipFill>
        <p:spPr>
          <a:xfrm>
            <a:off x="360360" y="1500120"/>
            <a:ext cx="8345520" cy="399888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51544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наглядно-образного мышл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я навыков работы с графической информацие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иксации внимания при усвоении учебного материал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ации учебно-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кретизации изучаемых вопрос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глядной систематизации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классифик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осмысленно учить материал, выделяя в нем главное и отбрасывая второстепенное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построения рассказа, ответа, речи, аргументирован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274680" y="-60480"/>
            <a:ext cx="8412120" cy="1481400"/>
          </a:xfrm>
          <a:prstGeom prst="rect">
            <a:avLst/>
          </a:prstGeom>
          <a:ln w="0">
            <a:noFill/>
          </a:ln>
        </p:spPr>
      </p:pic>
      <p:sp>
        <p:nvSpPr>
          <p:cNvPr id="390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2920" y="1071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рмин «кластер» происходит от английского «cluster» – гроздь,  скопление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 построении кластер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в центральном овале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сполагают ключевое понятие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 овалах второ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– понятия, раскрывающие смысл ключевого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валах третье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дет детализация понятий, упомянутых на предыдущем уровн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"/>
          <p:cNvGrpSpPr/>
          <p:nvPr/>
        </p:nvGrpSpPr>
        <p:grpSpPr>
          <a:xfrm>
            <a:off x="1428840" y="4000680"/>
            <a:ext cx="6962760" cy="2547720"/>
            <a:chOff x="1428840" y="4000680"/>
            <a:chExt cx="6962760" cy="2547720"/>
          </a:xfrm>
        </p:grpSpPr>
        <p:grpSp>
          <p:nvGrpSpPr>
            <p:cNvPr id="394" name="Group 3"/>
            <p:cNvGrpSpPr/>
            <p:nvPr/>
          </p:nvGrpSpPr>
          <p:grpSpPr>
            <a:xfrm>
              <a:off x="1428840" y="4000680"/>
              <a:ext cx="6962760" cy="2547720"/>
              <a:chOff x="1428840" y="4000680"/>
              <a:chExt cx="6962760" cy="2547720"/>
            </a:xfrm>
          </p:grpSpPr>
          <p:sp>
            <p:nvSpPr>
              <p:cNvPr id="395" name="Oval 4"/>
              <p:cNvSpPr/>
              <p:nvPr/>
            </p:nvSpPr>
            <p:spPr>
              <a:xfrm>
                <a:off x="4465080" y="4911120"/>
                <a:ext cx="1734840" cy="64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5"/>
              <p:cNvSpPr/>
              <p:nvPr/>
            </p:nvSpPr>
            <p:spPr>
              <a:xfrm>
                <a:off x="4698720" y="5014080"/>
                <a:ext cx="12009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Признаки объект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"/>
              <p:cNvGrpSpPr/>
              <p:nvPr/>
            </p:nvGrpSpPr>
            <p:grpSpPr>
              <a:xfrm>
                <a:off x="2318400" y="4981680"/>
                <a:ext cx="1267920" cy="609480"/>
                <a:chOff x="2318400" y="4981680"/>
                <a:chExt cx="1267920" cy="609480"/>
              </a:xfrm>
            </p:grpSpPr>
            <p:sp>
              <p:nvSpPr>
                <p:cNvPr id="398" name="Oval 7"/>
                <p:cNvSpPr/>
                <p:nvPr/>
              </p:nvSpPr>
              <p:spPr>
                <a:xfrm>
                  <a:off x="2318400" y="4981680"/>
                  <a:ext cx="126792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8"/>
                <p:cNvSpPr/>
                <p:nvPr/>
              </p:nvSpPr>
              <p:spPr>
                <a:xfrm>
                  <a:off x="2485080" y="5153040"/>
                  <a:ext cx="9453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свойства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Oval 9"/>
              <p:cNvSpPr/>
              <p:nvPr/>
            </p:nvSpPr>
            <p:spPr>
              <a:xfrm>
                <a:off x="4623120" y="4000680"/>
                <a:ext cx="126792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0"/>
              <p:cNvSpPr/>
              <p:nvPr/>
            </p:nvSpPr>
            <p:spPr>
              <a:xfrm>
                <a:off x="4790160" y="4173840"/>
                <a:ext cx="10677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11"/>
              <p:cNvGrpSpPr/>
              <p:nvPr/>
            </p:nvGrpSpPr>
            <p:grpSpPr>
              <a:xfrm>
                <a:off x="7090200" y="4829400"/>
                <a:ext cx="1267560" cy="609480"/>
                <a:chOff x="7090200" y="4829400"/>
                <a:chExt cx="1267560" cy="609480"/>
              </a:xfrm>
            </p:grpSpPr>
            <p:sp>
              <p:nvSpPr>
                <p:cNvPr id="403" name="Oval 12"/>
                <p:cNvSpPr/>
                <p:nvPr/>
              </p:nvSpPr>
              <p:spPr>
                <a:xfrm>
                  <a:off x="7090200" y="4829400"/>
                  <a:ext cx="126756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3"/>
                <p:cNvSpPr/>
                <p:nvPr/>
              </p:nvSpPr>
              <p:spPr>
                <a:xfrm>
                  <a:off x="7256880" y="5000760"/>
                  <a:ext cx="94500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действи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Oval 14"/>
              <p:cNvSpPr/>
              <p:nvPr/>
            </p:nvSpPr>
            <p:spPr>
              <a:xfrm>
                <a:off x="4689360" y="5938920"/>
                <a:ext cx="126756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5"/>
              <p:cNvSpPr/>
              <p:nvPr/>
            </p:nvSpPr>
            <p:spPr>
              <a:xfrm>
                <a:off x="4844880" y="6091200"/>
                <a:ext cx="101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состоя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6"/>
              <p:cNvSpPr/>
              <p:nvPr/>
            </p:nvSpPr>
            <p:spPr>
              <a:xfrm flipV="1">
                <a:off x="5277240" y="461016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7"/>
              <p:cNvSpPr/>
              <p:nvPr/>
            </p:nvSpPr>
            <p:spPr>
              <a:xfrm flipH="1">
                <a:off x="3597840" y="5248440"/>
                <a:ext cx="85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8"/>
              <p:cNvSpPr/>
              <p:nvPr/>
            </p:nvSpPr>
            <p:spPr>
              <a:xfrm>
                <a:off x="6189120" y="521028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"/>
              <p:cNvSpPr/>
              <p:nvPr/>
            </p:nvSpPr>
            <p:spPr>
              <a:xfrm>
                <a:off x="5299560" y="558180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7145640" y="42386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7212600" y="569628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1428840" y="5772600"/>
                <a:ext cx="1179000" cy="37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186000" y="58010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4"/>
            <p:cNvSpPr/>
            <p:nvPr/>
          </p:nvSpPr>
          <p:spPr>
            <a:xfrm>
              <a:off x="3330720" y="5858280"/>
              <a:ext cx="911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зна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40080" y="58294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величи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234560" y="42670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а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7301520" y="5743800"/>
              <a:ext cx="1090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пасс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2229120" y="5572440"/>
              <a:ext cx="3891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319560" y="5543640"/>
              <a:ext cx="3780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V="1">
              <a:off x="7735320" y="4600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>
              <a:off x="7757640" y="54486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3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39800" cy="22860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760" y="1642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несите недостающие надписи в сх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Organization Chart 3"/>
          <p:cNvGrpSpPr/>
          <p:nvPr/>
        </p:nvGrpSpPr>
        <p:grpSpPr>
          <a:xfrm>
            <a:off x="1428840" y="2500200"/>
            <a:ext cx="6429240" cy="2571480"/>
            <a:chOff x="1428840" y="2500200"/>
            <a:chExt cx="6429240" cy="2571480"/>
          </a:xfrm>
        </p:grpSpPr>
        <p:cxnSp>
          <p:nvCxnSpPr>
            <p:cNvPr id="429" name="_s1028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5668200" y="2536200"/>
              <a:ext cx="450720" cy="250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2" name="_s1029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4834440" y="3369960"/>
              <a:ext cx="450720" cy="833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4" name="_s1030"/>
            <p:cNvCxnSpPr>
              <a:stCxn id="435" idx="0"/>
              <a:endCxn id="431" idx="2"/>
            </p:cNvCxnSpPr>
            <p:nvPr/>
          </p:nvCxnSpPr>
          <p:spPr>
            <a:xfrm flipH="1" flipV="1" rot="5400000">
              <a:off x="4001400" y="3369600"/>
              <a:ext cx="450720" cy="8341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6" name="_s1031"/>
            <p:cNvCxnSpPr>
              <a:stCxn id="437" idx="0"/>
              <a:endCxn id="431" idx="2"/>
            </p:cNvCxnSpPr>
            <p:nvPr/>
          </p:nvCxnSpPr>
          <p:spPr>
            <a:xfrm flipH="1" flipV="1" rot="5400000">
              <a:off x="3167640" y="2536200"/>
              <a:ext cx="450720" cy="25009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31" name="_s1032"/>
            <p:cNvSpPr/>
            <p:nvPr/>
          </p:nvSpPr>
          <p:spPr>
            <a:xfrm>
              <a:off x="3928680" y="250020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и объ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3"/>
            <p:cNvSpPr/>
            <p:nvPr/>
          </p:nvSpPr>
          <p:spPr>
            <a:xfrm>
              <a:off x="14288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4"/>
            <p:cNvSpPr/>
            <p:nvPr/>
          </p:nvSpPr>
          <p:spPr>
            <a:xfrm>
              <a:off x="30956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476280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6"/>
            <p:cNvSpPr/>
            <p:nvPr/>
          </p:nvSpPr>
          <p:spPr>
            <a:xfrm>
              <a:off x="6429960" y="4043160"/>
              <a:ext cx="142812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76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2. Как располагают ключевое поняти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Ключевое понятие располагают в центральном овале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 Какие понятия раскрывают смысл ключевого понятия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 Как эти понятия мы разместим на схем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 Какое из понятий второго уровня детализировано в данном фрагмент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Соответствующую информацию разместим в овалах третье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57:46Z</dcterms:created>
  <dc:creator>Владелец</dc:creator>
  <dc:description/>
  <dc:language>en-US</dc:language>
  <cp:lastModifiedBy>LEGION</cp:lastModifiedBy>
  <dcterms:modified xsi:type="dcterms:W3CDTF">2015-04-01T07:43:30Z</dcterms:modified>
  <cp:revision>25</cp:revision>
  <dc:subject/>
  <dc:title>Графические способы представления учебной информации</dc:title>
</cp:coreProperties>
</file>